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FB0-08FA-4F4E-A604-F9D9072F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DEC-1172-40D5-AADB-22DF5205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D01-D302-4F67-8C3C-577CF3AD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B5F-E5E8-4B8B-B000-38B5D113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F8B-E27F-44A6-B621-1AF4D0E4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04C-9082-484F-ABCD-CE4FC1E9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B47-71ED-46E8-BD69-A7E6799F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269-26A0-4D9C-BCAE-B0223C4C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A85-B221-40DD-819C-A70F705D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C7A-79DE-4592-AA5A-D809FEC7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C0F-F17E-4F20-871A-450DDCA3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3DA-9EE6-43E8-9364-4610058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234A-F862-46C1-A731-0A346C8CE4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701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nergía del campo mag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052640"/>
            <a:ext cx="716256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ergía almacenada en los campos mag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44956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340000" y="2205000"/>
                <a:ext cx="1371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340000" y="5157720"/>
            <a:ext cx="4419720" cy="45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resión válida e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50920" y="5516640"/>
            <a:ext cx="4970520" cy="825480"/>
            <a:chOff x="2050920" y="5516640"/>
            <a:chExt cx="4970520" cy="82548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5688000" y="5516640"/>
                  <a:ext cx="13334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μ</m:t>
                          </m:r>
                        </m:den>
                      </m:f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" name=""/>
            <p:cNvSpPr/>
            <p:nvPr/>
          </p:nvSpPr>
          <p:spPr>
            <a:xfrm>
              <a:off x="2050920" y="5667480"/>
              <a:ext cx="358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En material magné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993120" y="2421000"/>
            <a:ext cx="267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nsidad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3360" y="3860640"/>
            <a:ext cx="774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nergía es la integral de volumen de la densidad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52280"/>
            <a:ext cx="670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ateriales ferromag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75420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erte interacciones magnéticas entre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tómicos producen alienaciones totales en regiones llamadas “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ominios magné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ico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” (~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 hasta mm) aun sin campo ext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2516040"/>
            <a:ext cx="8381880" cy="1216080"/>
            <a:chOff x="304920" y="2516040"/>
            <a:chExt cx="8381880" cy="1216080"/>
          </a:xfrm>
        </p:grpSpPr>
        <p:sp>
          <p:nvSpPr>
            <p:cNvPr id="54" name=""/>
            <p:cNvSpPr/>
            <p:nvPr/>
          </p:nvSpPr>
          <p:spPr>
            <a:xfrm>
              <a:off x="306360" y="2516040"/>
              <a:ext cx="2587680" cy="121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8480" y="2516040"/>
              <a:ext cx="1063440" cy="12160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31240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04920" y="31240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600200" y="28191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3520" y="2819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3429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133360" y="2819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7200" y="3429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8120" y="2647800"/>
              <a:ext cx="56386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=0, dominios orientados al az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6360" y="5562720"/>
            <a:ext cx="8837640" cy="1218960"/>
            <a:chOff x="306360" y="5562720"/>
            <a:chExt cx="8837640" cy="1218960"/>
          </a:xfrm>
        </p:grpSpPr>
        <p:sp>
          <p:nvSpPr>
            <p:cNvPr id="65" name=""/>
            <p:cNvSpPr/>
            <p:nvPr/>
          </p:nvSpPr>
          <p:spPr>
            <a:xfrm>
              <a:off x="306360" y="5564160"/>
              <a:ext cx="2587680" cy="121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7200" y="6324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080" y="6095880"/>
              <a:ext cx="14479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828800" y="6324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00200" y="55627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8120" y="5695920"/>
              <a:ext cx="6095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lo suficientemente intenso como para producir alineación total de domini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04920" y="4038480"/>
            <a:ext cx="9144000" cy="1304280"/>
            <a:chOff x="304920" y="4038480"/>
            <a:chExt cx="9144000" cy="1304280"/>
          </a:xfrm>
        </p:grpSpPr>
        <p:grpSp>
          <p:nvGrpSpPr>
            <p:cNvPr id="72" name=""/>
            <p:cNvGrpSpPr/>
            <p:nvPr/>
          </p:nvGrpSpPr>
          <p:grpSpPr>
            <a:xfrm>
              <a:off x="304920" y="4038480"/>
              <a:ext cx="9144000" cy="1304280"/>
              <a:chOff x="304920" y="4038480"/>
              <a:chExt cx="9144000" cy="1304280"/>
            </a:xfrm>
          </p:grpSpPr>
          <p:sp>
            <p:nvSpPr>
              <p:cNvPr id="73" name=""/>
              <p:cNvSpPr/>
              <p:nvPr/>
            </p:nvSpPr>
            <p:spPr>
              <a:xfrm>
                <a:off x="2133720" y="510552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6360" y="4040280"/>
                <a:ext cx="2587680" cy="121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500000">
                <a:off x="1297080" y="4115880"/>
                <a:ext cx="606240" cy="1063800"/>
              </a:xfrm>
              <a:prstGeom prst="parallelogram">
                <a:avLst>
                  <a:gd name="adj" fmla="val 24991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304920" y="432432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1600200" y="4419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3520" y="419112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133360" y="4495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533160" y="48006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48120" y="4152960"/>
                <a:ext cx="640080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 0, crecen dominios con orientaciones favorables a expensas de los otros (des-plazamiento de paredes de dominios)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1143000" y="4648320"/>
                <a:ext cx="838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057400" y="5010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238880" y="1981080"/>
            <a:ext cx="190512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sté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57600" y="814320"/>
            <a:ext cx="1827360" cy="2386080"/>
            <a:chOff x="3657600" y="814320"/>
            <a:chExt cx="1827360" cy="2386080"/>
          </a:xfrm>
        </p:grpSpPr>
        <p:sp>
          <p:nvSpPr>
            <p:cNvPr id="87" name=""/>
            <p:cNvSpPr/>
            <p:nvPr/>
          </p:nvSpPr>
          <p:spPr>
            <a:xfrm>
              <a:off x="3659040" y="814320"/>
              <a:ext cx="1825920" cy="1007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Rotación de paredes de domin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657600" y="1828800"/>
              <a:ext cx="91440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286000"/>
            <a:ext cx="3975120" cy="1676880"/>
            <a:chOff x="0" y="2286000"/>
            <a:chExt cx="3975120" cy="16768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2286000"/>
              <a:ext cx="39751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343160" y="3565440"/>
              <a:ext cx="1276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a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89917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ación espontánea de dominios en materiales ferromag- néticos de manera de reducir la energía asociada con la pérdida de flujo magnético en el espacio circund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98880" y="1974960"/>
            <a:ext cx="5753160" cy="489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4343400"/>
            <a:ext cx="3276720" cy="22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continua h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e la energía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formar nuevos do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ios (energía de las par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) es mayor que qu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ducción de energía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lo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5228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r que se forman los dominios magnéti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844640" y="5345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6812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iste una temperatura para cada material ferromagnético   (T de Curie) por encima de la cual se vuelve paramag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15000" y="1143000"/>
            <a:ext cx="3048120" cy="2300400"/>
            <a:chOff x="5715000" y="1143000"/>
            <a:chExt cx="3048120" cy="2300400"/>
          </a:xfrm>
        </p:grpSpPr>
        <p:sp>
          <p:nvSpPr>
            <p:cNvPr id="99" name=""/>
            <p:cNvSpPr/>
            <p:nvPr/>
          </p:nvSpPr>
          <p:spPr>
            <a:xfrm>
              <a:off x="7086600" y="3062160"/>
              <a:ext cx="1676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-18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3062160"/>
              <a:ext cx="1371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86600" y="2681280"/>
              <a:ext cx="1676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26812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G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86600" y="2300400"/>
              <a:ext cx="1676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3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5000" y="230040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6600" y="1919160"/>
              <a:ext cx="1676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1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1919160"/>
              <a:ext cx="1371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1538280"/>
              <a:ext cx="1676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7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5000" y="15382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38160" bIns="3816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6600" y="1143000"/>
              <a:ext cx="1676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 Curie (º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1143000"/>
              <a:ext cx="1371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15000" y="114300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153828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5000" y="191916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15000" y="230040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5000" y="268128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06216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15000" y="344340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1143000"/>
              <a:ext cx="0" cy="230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6600" y="1143000"/>
              <a:ext cx="0" cy="23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63120" y="1143000"/>
              <a:ext cx="0" cy="230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04920" y="1631880"/>
            <a:ext cx="495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 M de material magnetizado en toroide colapsa porque se pone en cc los bornes de la bo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9480" y="3962520"/>
                <a:ext cx="3746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φ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5105520"/>
                <a:ext cx="3683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o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43000" y="5715000"/>
                <a:ext cx="1854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746520" cy="3060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14800" y="5165640"/>
            <a:ext cx="2514600" cy="161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ergía disipada en cada ciclo es igual al área ence-rrada por la curva de histér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2971800"/>
            <a:ext cx="4305600" cy="762120"/>
            <a:chOff x="380880" y="2971800"/>
            <a:chExt cx="4305600" cy="762120"/>
          </a:xfrm>
        </p:grpSpPr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80880" y="2971800"/>
                  <a:ext cx="4305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ε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t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N</m:t>
                      </m:r>
                      <m:f>
                        <m:num>
                          <m:r>
                            <m:t xml:space="preserve">dφ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"/>
            <p:cNvSpPr/>
            <p:nvPr/>
          </p:nvSpPr>
          <p:spPr>
            <a:xfrm>
              <a:off x="3352680" y="3429000"/>
              <a:ext cx="38124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86200" y="3200400"/>
              <a:ext cx="38088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435600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152280" y="228600"/>
            <a:ext cx="5042160" cy="3313080"/>
            <a:chOff x="152280" y="228600"/>
            <a:chExt cx="5042160" cy="33130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52280" y="228600"/>
              <a:ext cx="504216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44440" y="274680"/>
              <a:ext cx="4845240" cy="32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905120" y="3825720"/>
            <a:ext cx="5717880" cy="87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-10 Am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materiales muy bl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eriales duros Sm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4876920"/>
            <a:ext cx="944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gnetos blandos: núcleos en campos altern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550548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gnetos duros: imanes perma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2280" y="5486400"/>
            <a:ext cx="8229600" cy="1371600"/>
            <a:chOff x="152280" y="5486400"/>
            <a:chExt cx="8229600" cy="1371600"/>
          </a:xfrm>
        </p:grpSpPr>
        <p:grpSp>
          <p:nvGrpSpPr>
            <p:cNvPr id="139" name=""/>
            <p:cNvGrpSpPr/>
            <p:nvPr/>
          </p:nvGrpSpPr>
          <p:grpSpPr>
            <a:xfrm>
              <a:off x="6933960" y="5486400"/>
              <a:ext cx="1447920" cy="1371600"/>
              <a:chOff x="6933960" y="5486400"/>
              <a:chExt cx="1447920" cy="1371600"/>
            </a:xfrm>
          </p:grpSpPr>
          <p:sp>
            <p:nvSpPr>
              <p:cNvPr id="140" name=""/>
              <p:cNvSpPr/>
              <p:nvPr/>
            </p:nvSpPr>
            <p:spPr>
              <a:xfrm>
                <a:off x="7620120" y="548640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34320" y="609588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38880" y="571500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01000" y="571500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38880" y="57150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6933960" y="655308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152280" y="6172200"/>
              <a:ext cx="6782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Memorias magnéticas: histéresis rectangul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0"/>
            <a:ext cx="44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manes perma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78040" y="442800"/>
            <a:ext cx="7654680" cy="2943360"/>
            <a:chOff x="878040" y="442800"/>
            <a:chExt cx="7654680" cy="2943360"/>
          </a:xfrm>
        </p:grpSpPr>
        <p:grpSp>
          <p:nvGrpSpPr>
            <p:cNvPr id="149" name=""/>
            <p:cNvGrpSpPr/>
            <p:nvPr/>
          </p:nvGrpSpPr>
          <p:grpSpPr>
            <a:xfrm>
              <a:off x="878040" y="442800"/>
              <a:ext cx="7654680" cy="2943360"/>
              <a:chOff x="878040" y="442800"/>
              <a:chExt cx="7654680" cy="29433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3583080" y="447840"/>
                <a:ext cx="2244600" cy="2751120"/>
                <a:chOff x="3583080" y="447840"/>
                <a:chExt cx="2244600" cy="275112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3583080" y="1065240"/>
                  <a:ext cx="2244600" cy="2133720"/>
                  <a:chOff x="3583080" y="1065240"/>
                  <a:chExt cx="2244600" cy="21337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3583080" y="1065240"/>
                    <a:ext cx="2244600" cy="21337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944880" y="1432080"/>
                    <a:ext cx="1521000" cy="1442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>
                  <a:off x="4365720" y="447840"/>
                  <a:ext cx="7920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H=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375080" y="1959120"/>
                  <a:ext cx="797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H=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387680" y="1063800"/>
                  <a:ext cx="86220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H=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878040" y="442800"/>
                <a:ext cx="7654680" cy="2943360"/>
                <a:chOff x="878040" y="442800"/>
                <a:chExt cx="7654680" cy="2943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749600" y="442800"/>
                  <a:ext cx="1306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M=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878040" y="442800"/>
                  <a:ext cx="7654680" cy="2943360"/>
                  <a:chOff x="878040" y="442800"/>
                  <a:chExt cx="7654680" cy="29433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6288120" y="1065240"/>
                    <a:ext cx="2244600" cy="2320920"/>
                    <a:chOff x="6288120" y="1065240"/>
                    <a:chExt cx="2244600" cy="232092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6288120" y="1065240"/>
                      <a:ext cx="2244600" cy="2133720"/>
                      <a:chOff x="6288120" y="1065240"/>
                      <a:chExt cx="2244600" cy="2133720"/>
                    </a:xfrm>
                  </p:grpSpPr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6288120" y="1065240"/>
                        <a:ext cx="2244600" cy="2133720"/>
                      </a:xfrm>
                      <a:prstGeom prst="ellipse">
                        <a:avLst/>
                      </a:prstGeom>
                      <a:solidFill>
                        <a:srgbClr val="b2b2b2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6649920" y="1432080"/>
                        <a:ext cx="1521000" cy="1442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359400" y="1130400"/>
                      <a:ext cx="2100240" cy="20001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 rot="1020000">
                      <a:off x="6451560" y="2855880"/>
                      <a:ext cx="86940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403" y="21593"/>
                          </a:moveTo>
                          <a:arcTo wR="10800" hR="10800" stAng="5526381" swAng="527361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403" y="21593"/>
                          </a:moveTo>
                          <a:arcTo wR="10800" hR="10800" stAng="5526381" swAng="5273619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497640" y="1246320"/>
                      <a:ext cx="1882800" cy="17888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6615000" y="1341360"/>
                      <a:ext cx="1665360" cy="1581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" name=""/>
                  <p:cNvSpPr/>
                  <p:nvPr/>
                </p:nvSpPr>
                <p:spPr>
                  <a:xfrm>
                    <a:off x="7229520" y="1063800"/>
                    <a:ext cx="9428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099200" y="442800"/>
                    <a:ext cx="94320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B=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094520" y="1959120"/>
                    <a:ext cx="9428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B=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78040" y="1050840"/>
                    <a:ext cx="2244600" cy="2321280"/>
                    <a:chOff x="878040" y="1050840"/>
                    <a:chExt cx="2244600" cy="232128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878040" y="1050840"/>
                      <a:ext cx="2244600" cy="2133720"/>
                      <a:chOff x="878040" y="1050840"/>
                      <a:chExt cx="2244600" cy="213372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878040" y="1050840"/>
                        <a:ext cx="2244600" cy="2133720"/>
                      </a:xfrm>
                      <a:prstGeom prst="ellipse">
                        <a:avLst/>
                      </a:prstGeom>
                      <a:solidFill>
                        <a:srgbClr val="b2b2b2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1239840" y="1417680"/>
                        <a:ext cx="1521000" cy="14428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949320" y="1116000"/>
                      <a:ext cx="2100240" cy="20001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rot="1020000">
                      <a:off x="1041120" y="2841480"/>
                      <a:ext cx="870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403" y="21593"/>
                          </a:moveTo>
                          <a:arcTo wR="10800" hR="10800" stAng="5526381" swAng="527361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403" y="21593"/>
                          </a:moveTo>
                          <a:arcTo wR="10800" hR="10800" stAng="5526381" swAng="5273619"/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1087560" y="1231920"/>
                      <a:ext cx="1882800" cy="17892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1204920" y="1327320"/>
                      <a:ext cx="1665360" cy="1581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9" name=""/>
            <p:cNvGrpSpPr/>
            <p:nvPr/>
          </p:nvGrpSpPr>
          <p:grpSpPr>
            <a:xfrm>
              <a:off x="1714680" y="1014480"/>
              <a:ext cx="799920" cy="1258200"/>
              <a:chOff x="1714680" y="1014480"/>
              <a:chExt cx="799920" cy="1258200"/>
            </a:xfrm>
          </p:grpSpPr>
          <p:sp>
            <p:nvSpPr>
              <p:cNvPr id="180" name=""/>
              <p:cNvSpPr/>
              <p:nvPr/>
            </p:nvSpPr>
            <p:spPr>
              <a:xfrm>
                <a:off x="1828800" y="10144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14680" y="1814400"/>
                <a:ext cx="799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M=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-76320" y="4495320"/>
            <a:ext cx="1676520" cy="2286360"/>
            <a:chOff x="-76320" y="4495320"/>
            <a:chExt cx="1676520" cy="2286360"/>
          </a:xfrm>
        </p:grpSpPr>
        <p:sp>
          <p:nvSpPr>
            <p:cNvPr id="183" name=""/>
            <p:cNvSpPr/>
            <p:nvPr/>
          </p:nvSpPr>
          <p:spPr>
            <a:xfrm flipV="1">
              <a:off x="380880" y="4495320"/>
              <a:ext cx="0" cy="221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-76320" y="4572000"/>
              <a:ext cx="1676520" cy="2209680"/>
              <a:chOff x="-76320" y="4572000"/>
              <a:chExt cx="1676520" cy="220968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685800" y="4572000"/>
                <a:ext cx="0" cy="144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38080" y="6019920"/>
                <a:ext cx="0" cy="76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-76320" y="5486400"/>
                <a:ext cx="457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5800" y="4876920"/>
                <a:ext cx="9144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B/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s-E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38080" y="609588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581280" y="76320"/>
                <a:ext cx="1828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791320" y="76320"/>
                <a:ext cx="1562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772400" y="141120"/>
                <a:ext cx="1270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52280" y="3184560"/>
            <a:ext cx="899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entrehierro, M en material no cambia y en e-h M=0; B producido por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que se redujo en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cambia poco en el material si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s chico respecto al valor anterior 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) y fuera idem, salvo distor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73040" y="4633920"/>
            <a:ext cx="2513160" cy="2333880"/>
            <a:chOff x="1373040" y="4633920"/>
            <a:chExt cx="2513160" cy="2333880"/>
          </a:xfrm>
        </p:grpSpPr>
        <p:grpSp>
          <p:nvGrpSpPr>
            <p:cNvPr id="195" name=""/>
            <p:cNvGrpSpPr/>
            <p:nvPr/>
          </p:nvGrpSpPr>
          <p:grpSpPr>
            <a:xfrm>
              <a:off x="1373040" y="4646520"/>
              <a:ext cx="2360880" cy="2321280"/>
              <a:chOff x="1373040" y="4646520"/>
              <a:chExt cx="2360880" cy="23212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373040" y="4646520"/>
                <a:ext cx="2244960" cy="2321280"/>
                <a:chOff x="1373040" y="4646520"/>
                <a:chExt cx="2244960" cy="2321280"/>
              </a:xfrm>
            </p:grpSpPr>
            <p:grpSp>
              <p:nvGrpSpPr>
                <p:cNvPr id="197" name=""/>
                <p:cNvGrpSpPr/>
                <p:nvPr/>
              </p:nvGrpSpPr>
              <p:grpSpPr>
                <a:xfrm>
                  <a:off x="1373040" y="4646520"/>
                  <a:ext cx="2244960" cy="2133720"/>
                  <a:chOff x="1373040" y="4646520"/>
                  <a:chExt cx="2244960" cy="21337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1373040" y="4646520"/>
                    <a:ext cx="2244960" cy="21337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735200" y="5013360"/>
                    <a:ext cx="1520640" cy="1442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>
                  <a:off x="1444680" y="4711680"/>
                  <a:ext cx="2100240" cy="2000160"/>
                </a:xfrm>
                <a:prstGeom prst="ellipse">
                  <a:avLst/>
                </a:prstGeom>
                <a:noFill/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020000">
                  <a:off x="1536480" y="6437160"/>
                  <a:ext cx="870120" cy="412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03" y="21593"/>
                      </a:moveTo>
                      <a:arcTo wR="10800" hR="10800" stAng="5526381" swAng="52736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03" y="21593"/>
                      </a:moveTo>
                      <a:arcTo wR="10800" hR="10800" stAng="5526381" swAng="52736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582560" y="4827600"/>
                  <a:ext cx="1882800" cy="1789200"/>
                </a:xfrm>
                <a:prstGeom prst="ellipse">
                  <a:avLst/>
                </a:prstGeom>
                <a:noFill/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00280" y="4923000"/>
                  <a:ext cx="1665360" cy="1581120"/>
                </a:xfrm>
                <a:prstGeom prst="ellipse">
                  <a:avLst/>
                </a:prstGeom>
                <a:noFill/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 flipV="1" rot="16200000">
                <a:off x="3085920" y="5308920"/>
                <a:ext cx="685800" cy="609840"/>
              </a:xfrm>
              <a:custGeom>
                <a:avLst/>
                <a:gdLst>
                  <a:gd name="textAreaLeft" fmla="*/ 150840 w 685800"/>
                  <a:gd name="textAreaRight" fmla="*/ 534960 w 685800"/>
                  <a:gd name="textAreaTop" fmla="*/ 133920 h 609840"/>
                  <a:gd name="textAreaBottom" fmla="*/ 475920 h 60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2" y="21600"/>
                    </a:lnTo>
                    <a:lnTo>
                      <a:pt x="539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095560" y="4633920"/>
              <a:ext cx="799920" cy="1258200"/>
              <a:chOff x="2095560" y="4633920"/>
              <a:chExt cx="799920" cy="1258200"/>
            </a:xfrm>
          </p:grpSpPr>
          <p:sp>
            <p:nvSpPr>
              <p:cNvPr id="206" name=""/>
              <p:cNvSpPr/>
              <p:nvPr/>
            </p:nvSpPr>
            <p:spPr>
              <a:xfrm>
                <a:off x="2209680" y="4633920"/>
                <a:ext cx="533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95560" y="5433840"/>
                <a:ext cx="799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M=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990880" y="5334120"/>
              <a:ext cx="820800" cy="1009080"/>
              <a:chOff x="2990880" y="5334120"/>
              <a:chExt cx="820800" cy="1009080"/>
            </a:xfrm>
          </p:grpSpPr>
          <p:sp>
            <p:nvSpPr>
              <p:cNvPr id="209" name=""/>
              <p:cNvSpPr/>
              <p:nvPr/>
            </p:nvSpPr>
            <p:spPr>
              <a:xfrm>
                <a:off x="3505320" y="5334120"/>
                <a:ext cx="306360" cy="610920"/>
              </a:xfrm>
              <a:custGeom>
                <a:avLst/>
                <a:gdLst/>
                <a:ahLst/>
                <a:rect l="l" t="t" r="r" b="b"/>
                <a:pathLst>
                  <a:path w="193" h="385">
                    <a:moveTo>
                      <a:pt x="0" y="0"/>
                    </a:moveTo>
                    <a:lnTo>
                      <a:pt x="20" y="1"/>
                    </a:lnTo>
                    <a:lnTo>
                      <a:pt x="39" y="4"/>
                    </a:lnTo>
                    <a:lnTo>
                      <a:pt x="57" y="9"/>
                    </a:lnTo>
                    <a:lnTo>
                      <a:pt x="75" y="15"/>
                    </a:lnTo>
                    <a:lnTo>
                      <a:pt x="92" y="23"/>
                    </a:lnTo>
                    <a:lnTo>
                      <a:pt x="108" y="33"/>
                    </a:lnTo>
                    <a:lnTo>
                      <a:pt x="136" y="56"/>
                    </a:lnTo>
                    <a:lnTo>
                      <a:pt x="159" y="85"/>
                    </a:lnTo>
                    <a:lnTo>
                      <a:pt x="169" y="101"/>
                    </a:lnTo>
                    <a:lnTo>
                      <a:pt x="177" y="117"/>
                    </a:lnTo>
                    <a:lnTo>
                      <a:pt x="184" y="135"/>
                    </a:lnTo>
                    <a:lnTo>
                      <a:pt x="188" y="153"/>
                    </a:lnTo>
                    <a:lnTo>
                      <a:pt x="191" y="173"/>
                    </a:lnTo>
                    <a:lnTo>
                      <a:pt x="192" y="192"/>
                    </a:lnTo>
                    <a:lnTo>
                      <a:pt x="191" y="212"/>
                    </a:lnTo>
                    <a:lnTo>
                      <a:pt x="188" y="231"/>
                    </a:lnTo>
                    <a:lnTo>
                      <a:pt x="184" y="249"/>
                    </a:lnTo>
                    <a:lnTo>
                      <a:pt x="177" y="267"/>
                    </a:lnTo>
                    <a:lnTo>
                      <a:pt x="169" y="284"/>
                    </a:lnTo>
                    <a:lnTo>
                      <a:pt x="159" y="300"/>
                    </a:lnTo>
                    <a:lnTo>
                      <a:pt x="136" y="328"/>
                    </a:lnTo>
                    <a:lnTo>
                      <a:pt x="108" y="351"/>
                    </a:lnTo>
                    <a:lnTo>
                      <a:pt x="92" y="361"/>
                    </a:lnTo>
                    <a:lnTo>
                      <a:pt x="75" y="369"/>
                    </a:lnTo>
                    <a:lnTo>
                      <a:pt x="57" y="376"/>
                    </a:lnTo>
                    <a:lnTo>
                      <a:pt x="39" y="380"/>
                    </a:lnTo>
                    <a:lnTo>
                      <a:pt x="20" y="383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12600">
                <a:solidFill>
                  <a:srgbClr val="99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90880" y="5425920"/>
                <a:ext cx="236520" cy="459000"/>
              </a:xfrm>
              <a:custGeom>
                <a:avLst/>
                <a:gdLst/>
                <a:ahLst/>
                <a:rect l="l" t="t" r="r" b="b"/>
                <a:pathLst>
                  <a:path w="149" h="289">
                    <a:moveTo>
                      <a:pt x="140" y="0"/>
                    </a:moveTo>
                    <a:lnTo>
                      <a:pt x="111" y="4"/>
                    </a:lnTo>
                    <a:lnTo>
                      <a:pt x="84" y="13"/>
                    </a:lnTo>
                    <a:lnTo>
                      <a:pt x="60" y="27"/>
                    </a:lnTo>
                    <a:lnTo>
                      <a:pt x="40" y="45"/>
                    </a:lnTo>
                    <a:lnTo>
                      <a:pt x="23" y="67"/>
                    </a:lnTo>
                    <a:lnTo>
                      <a:pt x="10" y="92"/>
                    </a:lnTo>
                    <a:lnTo>
                      <a:pt x="2" y="119"/>
                    </a:lnTo>
                    <a:lnTo>
                      <a:pt x="1" y="133"/>
                    </a:lnTo>
                    <a:lnTo>
                      <a:pt x="0" y="148"/>
                    </a:lnTo>
                    <a:lnTo>
                      <a:pt x="1" y="163"/>
                    </a:lnTo>
                    <a:lnTo>
                      <a:pt x="4" y="177"/>
                    </a:lnTo>
                    <a:lnTo>
                      <a:pt x="13" y="204"/>
                    </a:lnTo>
                    <a:lnTo>
                      <a:pt x="27" y="228"/>
                    </a:lnTo>
                    <a:lnTo>
                      <a:pt x="45" y="249"/>
                    </a:lnTo>
                    <a:lnTo>
                      <a:pt x="67" y="266"/>
                    </a:lnTo>
                    <a:lnTo>
                      <a:pt x="92" y="278"/>
                    </a:lnTo>
                    <a:lnTo>
                      <a:pt x="119" y="286"/>
                    </a:lnTo>
                    <a:lnTo>
                      <a:pt x="133" y="288"/>
                    </a:lnTo>
                    <a:lnTo>
                      <a:pt x="148" y="288"/>
                    </a:lnTo>
                  </a:path>
                </a:pathLst>
              </a:custGeom>
              <a:noFill/>
              <a:ln cap="rnd" w="12600">
                <a:solidFill>
                  <a:srgbClr val="9933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95800" y="5429160"/>
                <a:ext cx="15192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9933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429000" y="539424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137040" y="4280040"/>
            <a:ext cx="4572000" cy="838080"/>
            <a:chOff x="3137040" y="4280040"/>
            <a:chExt cx="4572000" cy="838080"/>
          </a:xfrm>
        </p:grpSpPr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4127400" y="4280040"/>
                  <a:ext cx="9781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"/>
            <p:cNvSpPr/>
            <p:nvPr/>
          </p:nvSpPr>
          <p:spPr>
            <a:xfrm>
              <a:off x="3137040" y="4457880"/>
              <a:ext cx="106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n e-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6261120" y="4438800"/>
                  <a:ext cx="144792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∮"/>
                          <m:subHide m:val="1"/>
                          <m:supHide m:val="1"/>
                        </m:naryPr>
                        <m:sub/>
                        <m:sup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H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l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5118120" y="443880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y co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696080" y="4191120"/>
            <a:ext cx="1447920" cy="161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 en el material  tiene sentido cont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040280" y="5640480"/>
            <a:ext cx="4951440" cy="1136160"/>
            <a:chOff x="4040280" y="5640480"/>
            <a:chExt cx="4951440" cy="1136160"/>
          </a:xfrm>
        </p:grpSpPr>
        <p:sp>
          <p:nvSpPr>
            <p:cNvPr id="220" name=""/>
            <p:cNvSpPr/>
            <p:nvPr/>
          </p:nvSpPr>
          <p:spPr>
            <a:xfrm>
              <a:off x="4040280" y="5640480"/>
              <a:ext cx="3055680" cy="10144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76880" y="5864400"/>
              <a:ext cx="182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29000" y="5695920"/>
              <a:ext cx="65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99480" y="5695920"/>
              <a:ext cx="101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M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257800" y="6486480"/>
              <a:ext cx="182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29000" y="5978520"/>
              <a:ext cx="1094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B’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9000" y="6318360"/>
              <a:ext cx="51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34120" y="6175440"/>
              <a:ext cx="80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34120" y="6486480"/>
              <a:ext cx="80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99480" y="5978520"/>
              <a:ext cx="1092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B=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9480" y="6303960"/>
              <a:ext cx="8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96040" y="6148440"/>
              <a:ext cx="8017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611280" y="533520"/>
            <a:ext cx="3427200" cy="2970000"/>
            <a:chOff x="611280" y="533520"/>
            <a:chExt cx="3427200" cy="2970000"/>
          </a:xfrm>
        </p:grpSpPr>
        <p:grpSp>
          <p:nvGrpSpPr>
            <p:cNvPr id="233" name=""/>
            <p:cNvGrpSpPr/>
            <p:nvPr/>
          </p:nvGrpSpPr>
          <p:grpSpPr>
            <a:xfrm>
              <a:off x="611280" y="533520"/>
              <a:ext cx="3427200" cy="2970000"/>
              <a:chOff x="611280" y="533520"/>
              <a:chExt cx="3427200" cy="297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611280" y="992160"/>
                <a:ext cx="2282760" cy="251136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68480" y="1373040"/>
                <a:ext cx="1368360" cy="1749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200400" y="2133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00400" y="23623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352680" y="17524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3352680" y="23623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05320" y="2019240"/>
                <a:ext cx="533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754280" y="992160"/>
                <a:ext cx="149040" cy="378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38360" y="533520"/>
                <a:ext cx="457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286000" y="2133720"/>
              <a:ext cx="7621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2280" y="152280"/>
            <a:ext cx="65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ircuitos mag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-360" y="76320"/>
            <a:ext cx="9068040" cy="3236760"/>
            <a:chOff x="-360" y="76320"/>
            <a:chExt cx="9068040" cy="3236760"/>
          </a:xfrm>
        </p:grpSpPr>
        <p:sp>
          <p:nvSpPr>
            <p:cNvPr id="246" name=""/>
            <p:cNvSpPr/>
            <p:nvPr/>
          </p:nvSpPr>
          <p:spPr>
            <a:xfrm>
              <a:off x="1066680" y="198108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-360" y="76320"/>
              <a:ext cx="9068040" cy="3236760"/>
              <a:chOff x="-360" y="76320"/>
              <a:chExt cx="9068040" cy="323676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-360" y="1143000"/>
                <a:ext cx="1068840" cy="1600200"/>
                <a:chOff x="-360" y="1143000"/>
                <a:chExt cx="1068840" cy="160020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-360" y="1746360"/>
                  <a:ext cx="1068840" cy="996840"/>
                  <a:chOff x="-360" y="1746360"/>
                  <a:chExt cx="1068840" cy="9968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609480" y="1746360"/>
                    <a:ext cx="45900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149">
                        <a:moveTo>
                          <a:pt x="0" y="4"/>
                        </a:moveTo>
                        <a:lnTo>
                          <a:pt x="21" y="1"/>
                        </a:lnTo>
                        <a:lnTo>
                          <a:pt x="44" y="0"/>
                        </a:lnTo>
                        <a:lnTo>
                          <a:pt x="68" y="0"/>
                        </a:lnTo>
                        <a:lnTo>
                          <a:pt x="96" y="4"/>
                        </a:lnTo>
                        <a:lnTo>
                          <a:pt x="112" y="8"/>
                        </a:lnTo>
                        <a:lnTo>
                          <a:pt x="131" y="12"/>
                        </a:lnTo>
                        <a:lnTo>
                          <a:pt x="171" y="22"/>
                        </a:lnTo>
                        <a:lnTo>
                          <a:pt x="191" y="29"/>
                        </a:lnTo>
                        <a:lnTo>
                          <a:pt x="210" y="36"/>
                        </a:lnTo>
                        <a:lnTo>
                          <a:pt x="226" y="44"/>
                        </a:lnTo>
                        <a:lnTo>
                          <a:pt x="240" y="52"/>
                        </a:lnTo>
                        <a:lnTo>
                          <a:pt x="251" y="62"/>
                        </a:lnTo>
                        <a:lnTo>
                          <a:pt x="260" y="72"/>
                        </a:lnTo>
                        <a:lnTo>
                          <a:pt x="267" y="84"/>
                        </a:lnTo>
                        <a:lnTo>
                          <a:pt x="273" y="96"/>
                        </a:lnTo>
                        <a:lnTo>
                          <a:pt x="282" y="121"/>
                        </a:lnTo>
                        <a:lnTo>
                          <a:pt x="288" y="148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480" y="1974960"/>
                    <a:ext cx="45900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149">
                        <a:moveTo>
                          <a:pt x="0" y="4"/>
                        </a:moveTo>
                        <a:lnTo>
                          <a:pt x="21" y="1"/>
                        </a:lnTo>
                        <a:lnTo>
                          <a:pt x="44" y="0"/>
                        </a:lnTo>
                        <a:lnTo>
                          <a:pt x="68" y="0"/>
                        </a:lnTo>
                        <a:lnTo>
                          <a:pt x="96" y="4"/>
                        </a:lnTo>
                        <a:lnTo>
                          <a:pt x="112" y="8"/>
                        </a:lnTo>
                        <a:lnTo>
                          <a:pt x="131" y="12"/>
                        </a:lnTo>
                        <a:lnTo>
                          <a:pt x="171" y="22"/>
                        </a:lnTo>
                        <a:lnTo>
                          <a:pt x="191" y="29"/>
                        </a:lnTo>
                        <a:lnTo>
                          <a:pt x="210" y="36"/>
                        </a:lnTo>
                        <a:lnTo>
                          <a:pt x="226" y="44"/>
                        </a:lnTo>
                        <a:lnTo>
                          <a:pt x="240" y="52"/>
                        </a:lnTo>
                        <a:lnTo>
                          <a:pt x="251" y="62"/>
                        </a:lnTo>
                        <a:lnTo>
                          <a:pt x="260" y="72"/>
                        </a:lnTo>
                        <a:lnTo>
                          <a:pt x="267" y="84"/>
                        </a:lnTo>
                        <a:lnTo>
                          <a:pt x="273" y="96"/>
                        </a:lnTo>
                        <a:lnTo>
                          <a:pt x="282" y="121"/>
                        </a:lnTo>
                        <a:lnTo>
                          <a:pt x="288" y="148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09480" y="2216160"/>
                    <a:ext cx="45900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149">
                        <a:moveTo>
                          <a:pt x="0" y="4"/>
                        </a:moveTo>
                        <a:lnTo>
                          <a:pt x="21" y="1"/>
                        </a:lnTo>
                        <a:lnTo>
                          <a:pt x="44" y="0"/>
                        </a:lnTo>
                        <a:lnTo>
                          <a:pt x="68" y="0"/>
                        </a:lnTo>
                        <a:lnTo>
                          <a:pt x="96" y="4"/>
                        </a:lnTo>
                        <a:lnTo>
                          <a:pt x="112" y="8"/>
                        </a:lnTo>
                        <a:lnTo>
                          <a:pt x="131" y="12"/>
                        </a:lnTo>
                        <a:lnTo>
                          <a:pt x="171" y="22"/>
                        </a:lnTo>
                        <a:lnTo>
                          <a:pt x="191" y="29"/>
                        </a:lnTo>
                        <a:lnTo>
                          <a:pt x="210" y="36"/>
                        </a:lnTo>
                        <a:lnTo>
                          <a:pt x="226" y="44"/>
                        </a:lnTo>
                        <a:lnTo>
                          <a:pt x="240" y="52"/>
                        </a:lnTo>
                        <a:lnTo>
                          <a:pt x="251" y="62"/>
                        </a:lnTo>
                        <a:lnTo>
                          <a:pt x="260" y="72"/>
                        </a:lnTo>
                        <a:lnTo>
                          <a:pt x="267" y="84"/>
                        </a:lnTo>
                        <a:lnTo>
                          <a:pt x="273" y="96"/>
                        </a:lnTo>
                        <a:lnTo>
                          <a:pt x="282" y="121"/>
                        </a:lnTo>
                        <a:lnTo>
                          <a:pt x="288" y="148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480" y="2432160"/>
                    <a:ext cx="45900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149">
                        <a:moveTo>
                          <a:pt x="0" y="4"/>
                        </a:moveTo>
                        <a:lnTo>
                          <a:pt x="21" y="1"/>
                        </a:lnTo>
                        <a:lnTo>
                          <a:pt x="44" y="0"/>
                        </a:lnTo>
                        <a:lnTo>
                          <a:pt x="68" y="0"/>
                        </a:lnTo>
                        <a:lnTo>
                          <a:pt x="96" y="4"/>
                        </a:lnTo>
                        <a:lnTo>
                          <a:pt x="112" y="8"/>
                        </a:lnTo>
                        <a:lnTo>
                          <a:pt x="131" y="12"/>
                        </a:lnTo>
                        <a:lnTo>
                          <a:pt x="171" y="22"/>
                        </a:lnTo>
                        <a:lnTo>
                          <a:pt x="191" y="29"/>
                        </a:lnTo>
                        <a:lnTo>
                          <a:pt x="210" y="36"/>
                        </a:lnTo>
                        <a:lnTo>
                          <a:pt x="226" y="44"/>
                        </a:lnTo>
                        <a:lnTo>
                          <a:pt x="240" y="52"/>
                        </a:lnTo>
                        <a:lnTo>
                          <a:pt x="251" y="62"/>
                        </a:lnTo>
                        <a:lnTo>
                          <a:pt x="260" y="72"/>
                        </a:lnTo>
                        <a:lnTo>
                          <a:pt x="267" y="84"/>
                        </a:lnTo>
                        <a:lnTo>
                          <a:pt x="273" y="96"/>
                        </a:lnTo>
                        <a:lnTo>
                          <a:pt x="282" y="121"/>
                        </a:lnTo>
                        <a:lnTo>
                          <a:pt x="288" y="148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-360" y="1752480"/>
                    <a:ext cx="60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>
                    <a:off x="-360" y="2743200"/>
                    <a:ext cx="60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76320" y="160020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2280" y="1143000"/>
                  <a:ext cx="5335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839880" y="1182600"/>
                <a:ext cx="1825560" cy="21304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81280" y="76320"/>
                <a:ext cx="5486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Líneas de B creado por i confinadas dentro del material ferromagnétic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373040" y="1143000"/>
            <a:ext cx="7847280" cy="2871000"/>
            <a:chOff x="1373040" y="1143000"/>
            <a:chExt cx="7847280" cy="2871000"/>
          </a:xfrm>
        </p:grpSpPr>
        <p:sp>
          <p:nvSpPr>
            <p:cNvPr id="261" name=""/>
            <p:cNvSpPr/>
            <p:nvPr/>
          </p:nvSpPr>
          <p:spPr>
            <a:xfrm>
              <a:off x="1373040" y="3125880"/>
              <a:ext cx="682920" cy="3776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3505320"/>
              <a:ext cx="609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3920" y="1143000"/>
              <a:ext cx="5486400" cy="8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Si material compuesto por varias partes de long l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j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y permeabilidad </a:t>
              </a:r>
              <a:r>
                <a:rPr b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800600" y="2133720"/>
                <a:ext cx="3022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111480" y="2895480"/>
                <a:ext cx="60451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∯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514600" y="3505320"/>
                <a:ext cx="1460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457880" y="3505320"/>
                <a:ext cx="2031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φ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023240" y="3722760"/>
                <a:ext cx="1206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791320" y="4114800"/>
            <a:ext cx="3504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m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fuerza magnetomotriz  R: reluctancia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733920" y="4952880"/>
            <a:ext cx="5257800" cy="1752840"/>
            <a:chOff x="3733920" y="4952880"/>
            <a:chExt cx="5257800" cy="1752840"/>
          </a:xfrm>
        </p:grpSpPr>
        <p:grpSp>
          <p:nvGrpSpPr>
            <p:cNvPr id="271" name=""/>
            <p:cNvGrpSpPr/>
            <p:nvPr/>
          </p:nvGrpSpPr>
          <p:grpSpPr>
            <a:xfrm>
              <a:off x="4704480" y="4952880"/>
              <a:ext cx="1212120" cy="1752840"/>
              <a:chOff x="4704480" y="4952880"/>
              <a:chExt cx="1212120" cy="175284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4704480" y="4952880"/>
                <a:ext cx="1212120" cy="1752840"/>
                <a:chOff x="4704480" y="4952880"/>
                <a:chExt cx="1212120" cy="17528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4704480" y="4952880"/>
                  <a:ext cx="1212120" cy="1752840"/>
                  <a:chOff x="4704480" y="4952880"/>
                  <a:chExt cx="1212120" cy="1752840"/>
                </a:xfrm>
              </p:grpSpPr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704480" y="4954680"/>
                    <a:ext cx="1212120" cy="758880"/>
                    <a:chOff x="4704480" y="4954680"/>
                    <a:chExt cx="1212120" cy="75888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flipH="1" flipV="1" rot="10800000">
                      <a:off x="4704120" y="5335560"/>
                      <a:ext cx="1211400" cy="378000"/>
                    </a:xfrm>
                    <a:custGeom>
                      <a:avLst/>
                      <a:gdLst>
                        <a:gd name="textAreaLeft" fmla="*/ 344880 w 1211400"/>
                        <a:gd name="textAreaRight" fmla="*/ 866520 w 1211400"/>
                        <a:gd name="textAreaTop" fmla="*/ 107640 h 378000"/>
                        <a:gd name="textAreaBottom" fmla="*/ 270360 h 37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3682" y="21600"/>
                          </a:lnTo>
                          <a:lnTo>
                            <a:pt x="7918" y="2160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4705200" y="4954680"/>
                      <a:ext cx="1211400" cy="377640"/>
                    </a:xfrm>
                    <a:prstGeom prst="rect">
                      <a:avLst/>
                    </a:prstGeom>
                    <a:solidFill>
                      <a:srgbClr val="b2b2b2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4705200" y="5945040"/>
                    <a:ext cx="1211400" cy="758880"/>
                    <a:chOff x="4705200" y="5945040"/>
                    <a:chExt cx="1211400" cy="758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flipV="1">
                      <a:off x="4705200" y="5945040"/>
                      <a:ext cx="1211400" cy="378000"/>
                    </a:xfrm>
                    <a:custGeom>
                      <a:avLst/>
                      <a:gdLst>
                        <a:gd name="textAreaLeft" fmla="*/ 344880 w 1211400"/>
                        <a:gd name="textAreaRight" fmla="*/ 866520 w 1211400"/>
                        <a:gd name="textAreaTop" fmla="*/ 107640 h 378000"/>
                        <a:gd name="textAreaBottom" fmla="*/ 270360 h 37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3682" y="21600"/>
                          </a:lnTo>
                          <a:lnTo>
                            <a:pt x="7918" y="21600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4705200" y="6326280"/>
                      <a:ext cx="1211400" cy="377640"/>
                    </a:xfrm>
                    <a:prstGeom prst="rect">
                      <a:avLst/>
                    </a:prstGeom>
                    <a:solidFill>
                      <a:srgbClr val="b2b2b2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4946760" y="4952880"/>
                    <a:ext cx="0" cy="38124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946760" y="6324480"/>
                    <a:ext cx="0" cy="38124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675400" y="4952880"/>
                    <a:ext cx="0" cy="38124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675400" y="6324480"/>
                    <a:ext cx="0" cy="38124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330880" y="4952880"/>
                    <a:ext cx="0" cy="175284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"/>
                <p:cNvSpPr/>
                <p:nvPr/>
              </p:nvSpPr>
              <p:spPr>
                <a:xfrm>
                  <a:off x="4946760" y="5334120"/>
                  <a:ext cx="323640" cy="3808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92800" y="5943600"/>
                  <a:ext cx="323640" cy="3808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5392440" y="5334120"/>
                  <a:ext cx="282600" cy="3808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4946400" y="5943600"/>
                  <a:ext cx="323640" cy="3808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5270400" y="5715000"/>
                <a:ext cx="0" cy="228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92800" y="5715000"/>
                <a:ext cx="0" cy="228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999040" y="5105520"/>
              <a:ext cx="2992680" cy="155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on geometría de las piezas polares se puede contro-lar intensidad de B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733920" y="5423040"/>
                  <a:ext cx="8618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φ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3" name=""/>
          <p:cNvGrpSpPr/>
          <p:nvPr/>
        </p:nvGrpSpPr>
        <p:grpSpPr>
          <a:xfrm>
            <a:off x="2135160" y="838080"/>
            <a:ext cx="5103720" cy="1562040"/>
            <a:chOff x="2135160" y="838080"/>
            <a:chExt cx="5103720" cy="1562040"/>
          </a:xfrm>
        </p:grpSpPr>
        <p:grpSp>
          <p:nvGrpSpPr>
            <p:cNvPr id="294" name=""/>
            <p:cNvGrpSpPr/>
            <p:nvPr/>
          </p:nvGrpSpPr>
          <p:grpSpPr>
            <a:xfrm>
              <a:off x="2135160" y="2095560"/>
              <a:ext cx="1064880" cy="304560"/>
              <a:chOff x="2135160" y="2095560"/>
              <a:chExt cx="1064880" cy="3045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135160" y="2095560"/>
                <a:ext cx="545400" cy="304560"/>
                <a:chOff x="2135160" y="2095560"/>
                <a:chExt cx="545400" cy="3045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287440" y="2135160"/>
                  <a:ext cx="272880" cy="228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065" y="21526"/>
                      </a:moveTo>
                      <a:arcTo wR="10800" hR="10800" stAng="4996495" swAng="111635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065" y="21526"/>
                      </a:moveTo>
                      <a:arcTo wR="10800" hR="10800" stAng="4996495" swAng="11163533"/>
                    </a:path>
                  </a:pathLst>
                </a:custGeom>
                <a:noFill/>
                <a:ln cap="rnd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35160" y="2095560"/>
                  <a:ext cx="54540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060" y="21526"/>
                      </a:moveTo>
                      <a:arcTo wR="10800" hR="10800" stAng="4997898" swAng="111821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060" y="21526"/>
                      </a:moveTo>
                      <a:arcTo wR="10800" hR="10800" stAng="4997898" swAng="11182115"/>
                    </a:path>
                  </a:pathLst>
                </a:custGeom>
                <a:noFill/>
                <a:ln cap="rnd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654640" y="2095560"/>
                <a:ext cx="545400" cy="304560"/>
                <a:chOff x="2654640" y="2095560"/>
                <a:chExt cx="545400" cy="3045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775240" y="2133720"/>
                  <a:ext cx="272520" cy="228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2434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243429"/>
                    </a:path>
                  </a:pathLst>
                </a:custGeom>
                <a:noFill/>
                <a:ln cap="rnd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654640" y="2095560"/>
                  <a:ext cx="54540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2220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222010"/>
                    </a:path>
                  </a:pathLst>
                </a:custGeom>
                <a:noFill/>
                <a:ln cap="rnd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3200400" y="838080"/>
              <a:ext cx="4038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Despreciando efectos de bor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047760" y="1257480"/>
              <a:ext cx="228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80880" y="4495680"/>
            <a:ext cx="2667240" cy="1765440"/>
            <a:chOff x="380880" y="4495680"/>
            <a:chExt cx="2667240" cy="176544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38120" y="5029200"/>
                  <a:ext cx="229860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</m:num>
                        <m:den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μ</m:t>
                              </m:r>
                              <m:r>
                                <m:t xml:space="preserve"> 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A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380880" y="4495680"/>
              <a:ext cx="266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En nuestro ca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09480" y="5257800"/>
              <a:ext cx="457200" cy="380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599840" y="5943600"/>
              <a:ext cx="228600" cy="228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2320" y="5943600"/>
              <a:ext cx="38088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8:19:37Z</dcterms:created>
  <dc:creator>Hugo Sirkin</dc:creator>
  <dc:description/>
  <dc:language>en-US</dc:language>
  <cp:lastModifiedBy>Marcelo</cp:lastModifiedBy>
  <dcterms:modified xsi:type="dcterms:W3CDTF">2004-10-06T16:32:15Z</dcterms:modified>
  <cp:revision>134</cp:revision>
  <dc:subject/>
  <dc:title>Presentación de PowerPoint</dc:title>
</cp:coreProperties>
</file>